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A7CF-08BF-46D0-B3C5-8E83E8F3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B6B8-690E-4AF6-A626-7B80B3C0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20A4-322F-44DC-BA6D-E90EEEC6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83E-5A3D-45BF-851E-E40B563C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CCB1-BCBC-489C-8825-C97CF230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69AA-1C83-48FF-9FCF-FFC1D379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0AE0-4021-4F85-9E4F-13274224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DB53-C230-45E9-91FE-5F3D2938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B35D-BF86-4E22-B804-6E1E2E9E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1D4A-8325-4A2E-B0FA-9DA1BE60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7C0E-9F59-43BF-A9F8-08C32A97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D98C-C388-4BD5-AC38-ADAAC6B4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29BE-E57B-430F-A0A8-4A307CCEF1A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83 Istota vzác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ebeskej sláv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cne sa skvie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to chcem ver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akať a bdie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ku mu vzdáv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aždý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ieťaťom Bož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ať že sa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sklame nikdy, pomáha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že mu môž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ôverova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stota vzácna: Ježiš j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oja, blaha bezpečný zdroj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dič som spásy, vykúpe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rodený z Ducha, očiste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ku mu vzdáv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aždý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ieťaťom Bož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ať že sa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sklame nikdy, pomáha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že mu môž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ôve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nie som sv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Ježišov s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on je mojím Spasiteľ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ebesám zrak svoj pozdvihuj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skoro príde, to dobre v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ku mu vzdáv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aždý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ieťaťom Bož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ať že sa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sklame nikdy, pomáha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že mu môž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ôve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rdca radosť vlieva mi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dím ho vier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chádzať k n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user</cp:lastModifiedBy>
  <dcterms:modified xsi:type="dcterms:W3CDTF">2025-10-04T07:48:52Z</dcterms:modified>
  <cp:revision>22</cp:revision>
  <dc:subject/>
  <dc:title>Je veľký náš Pán, on slávy je Kráľ Nech do všetkých strán  spev vrúcnych znie chvál.</dc:title>
</cp:coreProperties>
</file>